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FDA-4D73-4608-9D37-B73F932E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0CB-E811-418A-BD8D-83805CC2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A6E-D73B-4050-A57A-C000C272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DA3-2522-4586-8B03-408A8608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C26-8F83-4F9E-8125-46E320F2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FED-AEA4-41EE-AB82-3C607DA8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552-7060-4E37-9DB1-114EA817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CE0-2FE5-46E0-9EF5-5F95C8C6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244-97E5-4715-86F7-E6F50B81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864-DC6B-49AD-B0B0-BCCD3E63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248-5393-4131-86D1-A4A70A83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BE5-8E09-4F0C-86B2-055F6E7D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3B42-C6B6-48EA-8E8B-14CF443AB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 and Effect Diagra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22760" y="3276720"/>
            <a:ext cx="161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65760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752480"/>
            <a:ext cx="182880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990720" y="3657240"/>
            <a:ext cx="198108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1676520"/>
            <a:ext cx="182880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809880" y="3657600"/>
            <a:ext cx="1828800" cy="22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7524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0600" y="61754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4200" y="6099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898000">
            <a:off x="4232160" y="2016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810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638680" y="205740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898000">
            <a:off x="1127880" y="1997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758400">
            <a:off x="671040" y="45100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758400">
            <a:off x="3538800" y="4519440"/>
            <a:ext cx="19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s/f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18280" y="224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758400">
            <a:off x="5075640" y="201096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ough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813600">
            <a:off x="2971440" y="190476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495320" y="5105160"/>
            <a:ext cx="12193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924400">
            <a:off x="4479840" y="55774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s too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7432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813600">
            <a:off x="259920" y="198432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littl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" y="4191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872800">
            <a:off x="229680" y="39387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between scr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904760" y="4876920"/>
            <a:ext cx="99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3225600">
            <a:off x="1901880" y="505620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ver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819520" y="3048120"/>
            <a:ext cx="2133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902200">
            <a:off x="2599920" y="29458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lin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05520" y="4343400"/>
            <a:ext cx="1218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924400">
            <a:off x="5089680" y="481536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s too 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7520" y="11430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Change the text in the diagram based on your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5:48:27Z</dcterms:created>
  <dc:creator>schwalbe</dc:creator>
  <dc:description/>
  <dc:language>en-US</dc:language>
  <cp:lastModifiedBy>schwalbe</cp:lastModifiedBy>
  <dcterms:modified xsi:type="dcterms:W3CDTF">2005-10-14T20:48:23Z</dcterms:modified>
  <cp:revision>60</cp:revision>
  <dc:subject/>
  <dc:title>Slide 1</dc:title>
</cp:coreProperties>
</file>